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1A14-AD49-4E25-818A-E2F768B2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BECE-F350-40E0-80DD-94ECBF6E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BF4B-1D1F-4A1E-BC14-3EEF8C76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FCB9-F6AD-4E4A-9029-A5C85606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0B49-585D-43C4-8E66-7EB6905A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4FA2-D0EE-4543-B8C4-4CAC3840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5E0C-5706-4C22-AEAC-57F126C7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9ECD-BDF8-4EEA-8C8A-B090BD54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74C1-B79B-43D7-8CF5-D6E62CD8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993E-6FBB-42D5-BC5F-00308A7D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7C1C-4F0D-47CD-AD3B-4DB1896C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9515-E7F2-464B-80A8-BFB6D2E9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684E-48D4-4BA0-81E0-6864C797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3434-CE27-434B-8B59-BC3BEC7B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163B-81DC-4BC7-B5E4-E81E596B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C39B-E4E6-4F9B-B9B6-F9313403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51C6-A6B4-40E4-B426-68E3F32E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F483-835C-4359-BC5B-93D1B23B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8D16-23C0-4A25-9110-94CC22D1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CDD9-9DE5-4F23-9157-4F7FE0A0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58D7-6AF1-4487-B8D2-87E7DD5F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C6AD-9DEE-4DD1-A062-EC0AB791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3F3A-3D99-4649-A09F-9AEE5A50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A397-C395-4CAE-B92E-A2DDE9A4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2F74-E114-4CAD-A9F7-6C69F0BD1A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F4C2-6C50-44DC-8C01-9C1AD1F7BE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olcanoes.usgs.gov/Products/Pglossary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Hazards of Volcanic Erup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ers Clu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ther Haz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 Glossary of Volcano Terms,”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.S. Geological Surve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eptember 30, 1999,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volcanoes.usgs.gov/Products/Pglossary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(accessed April 23, 200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olcanic Haz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9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hra – pieces of volcanic rock and lava exploded into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ic gas – gases released from molten rock into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har – rock, water, and mud that flows down the sides of an exploding volc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ic ash – tiny and hard rock, minerals, and volcanic glass pi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olcanic Haz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va – molten rock (magma) below that explodes into the air during a volcanic e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roclastic flow – an avalanche of hot rock, gas, and lava flowing quickly down the side of a volc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447920" y="1474920"/>
            <a:ext cx="6248160" cy="39081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65760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ph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54864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GS photograph by D. Wieprec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657600" y="609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canic G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90720" y="57150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GS photograph by K. A. McGee on September 19, 19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447920" y="1665360"/>
            <a:ext cx="625320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657600" y="60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h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90720" y="57150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GS photograph by K. A. McGee on September 19, 19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447920" y="1665360"/>
            <a:ext cx="625320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657600" y="609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canic A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09680" y="5715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GS photograph by D. E. Wieprec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447920" y="1569960"/>
            <a:ext cx="62532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65760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90720" y="57150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GS photograph by J. D. Griggs on November 13, 198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3657600" y="609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yroclastic 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90720" y="57150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GS photograph by C. Newhall on September 23, 198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523880" y="1522440"/>
            <a:ext cx="609624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6:12:29Z</dcterms:created>
  <dc:creator>Ollie Rivers</dc:creator>
  <dc:description/>
  <dc:language>en-US</dc:language>
  <cp:lastModifiedBy>Daniel O'Mahoney-Schwartz</cp:lastModifiedBy>
  <dcterms:modified xsi:type="dcterms:W3CDTF">2005-02-04T21:39:15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1004142</vt:r8>
  </property>
  <property fmtid="{D5CDD505-2E9C-101B-9397-08002B2CF9AE}" pid="3" name="_AuthorEmail">
    <vt:lpwstr>orivers@earthlink.net</vt:lpwstr>
  </property>
  <property fmtid="{D5CDD505-2E9C-101B-9397-08002B2CF9AE}" pid="4" name="_AuthorEmailDisplayName">
    <vt:lpwstr>Ollie Rivers</vt:lpwstr>
  </property>
  <property fmtid="{D5CDD505-2E9C-101B-9397-08002B2CF9AE}" pid="5" name="_EmailSubject">
    <vt:lpwstr>LWC copyedit/review L7P12 rest of files</vt:lpwstr>
  </property>
</Properties>
</file>